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8FC-114D-4EB4-B173-BAEBC621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0AA5-80D4-49A5-9BCB-7DA02A56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395-4419-41B5-A09D-691F58BC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333-CE00-43CE-8F3B-3625D818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8DD8-8A47-44CF-AEF8-4AFE3074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99A-7AD2-4197-B6EC-DF648ED6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F57-89A8-4098-9005-BE4359CE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622-DB5E-42D3-8B39-7D9B543D9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31F-8EC9-4A0F-A5C8-BAA94693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2B4-5A65-40CD-89FB-9B5AA38DF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F4A-0D55-4E06-9045-7F48FD8F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DDA4-AE87-4567-A26F-74762599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2F89-CCF8-42D5-8F56-0668C6F3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BA9-DD6C-42D3-A3EA-2C5D685F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6385-157B-4905-97F3-FC13AB0A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187-32FF-4821-B3B5-61531860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CD2-5753-4610-8E7F-9B350410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A72-0D3E-4EA8-BFC2-02DC7125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9DA-3840-4B52-AD47-AB4602A1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78D-D02E-4121-8EDE-73FE8D03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1DB-7A04-4279-AB16-7F478FBA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EC7A-88A2-4D66-BA3D-A7D0665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8715-6EB1-49D7-A818-D0CDA5F0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197A-5F75-4400-90B6-B53F749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EA98-11D5-4D7F-9C59-BC29D3F4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17EB-416C-407D-ACA5-0898FE05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2A5-78A5-4BBB-AB98-03B8F75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63D-6445-47A0-A923-F49FC531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B91-BE7C-49FE-86DF-43E90DE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994-E9CB-4629-87C4-8845A47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E84-CC23-484C-AA45-77AE448D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B8A9-3F31-4237-A805-94493653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A72-DA58-4B50-85FF-CBFE14BC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986-C367-4246-AF9E-CE2E745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556-6A77-4394-B68D-490FA96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774-A6F8-4FA7-A7D7-2660E54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3BB-8259-44D0-8389-3A90328A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6EA-4ADC-432C-A791-7869FAA9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133-B068-47C0-9D5A-00B186C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DDD-1CCD-4EC0-BB5C-5CF66576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2F4-4638-4E14-9872-EFA0B1C7C9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D4B-A772-444F-A92E-E4F41978C7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Enabled RFID and NVRA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Calh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P VLSI Group, 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Ta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64400" cy="453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791320" y="21337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~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+ DC reg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(RNG, Charge Pump, support functions):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01600" y="6427800"/>
            <a:ext cx="88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net et al, “A Passive UHF RFID transponder for EPC Gen2 in 0.13um CMOS” (TI’s gen2 tag) ISS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Encryption Sol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Key Schemes not secur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a tag, break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per tag key results in key-database maintenance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Key Sc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algorithms like RSA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ay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weaker algorithms like ECC, NTRU, or XTR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so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 schemes are not scalable…. Security decreases dramatically with key size (and thus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: Scalable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ey Size determines power,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ag has unique small private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er can decryption all tags using same large private key that reader h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ader doesn’t need to maintain tag-private key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breaking a tag depends on tag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even if you break a tag, it doesn’t give you any clue on how to break the next… thus the system remains 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 &amp; CB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cheme was chosen because its heavily dependent on memory, and memory giv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nser implem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logic-centric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s unique to each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can’t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NVRAM, or O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RAM dominates both performance, power, and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opportunity to leverage CBRAM 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RAM crucial in making the Encryption scheme fea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goes on the ADESTO 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BRAM Mac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, Perf, Area all cons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Number Gen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Logic: ad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Area ~ 0.2m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~40K g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72200" y="1628640"/>
            <a:ext cx="2133720" cy="21337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72200" y="4143240"/>
            <a:ext cx="21337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381560" y="4143240"/>
            <a:ext cx="12193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00600" y="2924280"/>
            <a:ext cx="380880" cy="30456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705720" y="24670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-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858000" y="424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33840" y="424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4572000" y="292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3"/>
          <p:cNvCxnSpPr>
            <a:stCxn id="127" idx="2"/>
            <a:endCxn id="126" idx="0"/>
          </p:cNvCxnSpPr>
          <p:nvPr/>
        </p:nvCxnSpPr>
        <p:spPr>
          <a:xfrm flipH="1">
            <a:off x="4990320" y="3228840"/>
            <a:ext cx="10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>
            <a:stCxn id="126" idx="3"/>
            <a:endCxn id="125" idx="1"/>
          </p:cNvCxnSpPr>
          <p:nvPr/>
        </p:nvCxnSpPr>
        <p:spPr>
          <a:xfrm>
            <a:off x="5600520" y="4371480"/>
            <a:ext cx="5720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Up-Down Arrow 17"/>
          <p:cNvSpPr/>
          <p:nvPr/>
        </p:nvSpPr>
        <p:spPr>
          <a:xfrm>
            <a:off x="7162920" y="3762360"/>
            <a:ext cx="152280" cy="380880"/>
          </a:xfrm>
          <a:prstGeom prst="upDownArrow">
            <a:avLst>
              <a:gd name="adj1" fmla="val 50000"/>
              <a:gd name="adj2" fmla="val 4979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n Arrow 18"/>
          <p:cNvSpPr/>
          <p:nvPr/>
        </p:nvSpPr>
        <p:spPr>
          <a:xfrm>
            <a:off x="7162920" y="46004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685800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20"/>
          <p:cNvSpPr/>
          <p:nvPr/>
        </p:nvSpPr>
        <p:spPr>
          <a:xfrm>
            <a:off x="3733920" y="1752480"/>
            <a:ext cx="2438280" cy="76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4"/>
          <p:cNvSpPr/>
          <p:nvPr/>
        </p:nvSpPr>
        <p:spPr>
          <a:xfrm flipV="1">
            <a:off x="5492880" y="3422160"/>
            <a:ext cx="144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6"/>
          <p:cNvCxnSpPr/>
          <p:nvPr/>
        </p:nvCxnSpPr>
        <p:spPr>
          <a:xfrm>
            <a:off x="5486040" y="342900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27"/>
          <p:cNvSpPr/>
          <p:nvPr/>
        </p:nvSpPr>
        <p:spPr>
          <a:xfrm>
            <a:off x="2620800" y="1523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_In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9"/>
          <p:cNvCxnSpPr/>
          <p:nvPr/>
        </p:nvCxnSpPr>
        <p:spPr>
          <a:xfrm>
            <a:off x="3733560" y="1980720"/>
            <a:ext cx="2439000" cy="252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2" name="TextBox 31"/>
          <p:cNvSpPr/>
          <p:nvPr/>
        </p:nvSpPr>
        <p:spPr>
          <a:xfrm>
            <a:off x="2514600" y="18111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52578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O, EDI, RD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5"/>
          <p:cNvCxnSpPr/>
          <p:nvPr/>
        </p:nvCxnSpPr>
        <p:spPr>
          <a:xfrm>
            <a:off x="3809520" y="3505320"/>
            <a:ext cx="11898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5" name="TextBox 36"/>
          <p:cNvSpPr/>
          <p:nvPr/>
        </p:nvSpPr>
        <p:spPr>
          <a:xfrm>
            <a:off x="2819520" y="3276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533520" y="1371600"/>
            <a:ext cx="2209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(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_RNG (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phertext (serial o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CO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800600" y="5329080"/>
            <a:ext cx="380880" cy="3049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572000" y="5329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41"/>
          <p:cNvCxnSpPr/>
          <p:nvPr/>
        </p:nvCxnSpPr>
        <p:spPr>
          <a:xfrm>
            <a:off x="3809880" y="5481720"/>
            <a:ext cx="983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43"/>
          <p:cNvSpPr/>
          <p:nvPr/>
        </p:nvSpPr>
        <p:spPr>
          <a:xfrm>
            <a:off x="2895480" y="52531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44"/>
          <p:cNvCxnSpPr/>
          <p:nvPr/>
        </p:nvCxnSpPr>
        <p:spPr>
          <a:xfrm>
            <a:off x="3809880" y="4255560"/>
            <a:ext cx="572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47"/>
          <p:cNvSpPr/>
          <p:nvPr/>
        </p:nvSpPr>
        <p:spPr>
          <a:xfrm>
            <a:off x="2819520" y="40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9"/>
          <p:cNvCxnSpPr/>
          <p:nvPr/>
        </p:nvCxnSpPr>
        <p:spPr>
          <a:xfrm flipH="1" flipV="1">
            <a:off x="3777840" y="4494960"/>
            <a:ext cx="596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50"/>
          <p:cNvSpPr/>
          <p:nvPr/>
        </p:nvSpPr>
        <p:spPr>
          <a:xfrm>
            <a:off x="2819520" y="4325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53"/>
          <p:cNvCxnSpPr/>
          <p:nvPr/>
        </p:nvCxnSpPr>
        <p:spPr>
          <a:xfrm>
            <a:off x="3801960" y="250200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156" name="Straight Arrow Connector 54"/>
          <p:cNvCxnSpPr/>
          <p:nvPr/>
        </p:nvCxnSpPr>
        <p:spPr>
          <a:xfrm flipH="1" flipV="1">
            <a:off x="3771360" y="2741400"/>
            <a:ext cx="59436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7" name="TextBox 55"/>
          <p:cNvSpPr/>
          <p:nvPr/>
        </p:nvSpPr>
        <p:spPr>
          <a:xfrm>
            <a:off x="27432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_In, Scan_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56"/>
          <p:cNvCxnSpPr/>
          <p:nvPr/>
        </p:nvCxnSpPr>
        <p:spPr>
          <a:xfrm>
            <a:off x="3809880" y="510552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9" name="TextBox 57"/>
          <p:cNvSpPr/>
          <p:nvPr/>
        </p:nvSpPr>
        <p:spPr>
          <a:xfrm>
            <a:off x="292572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58"/>
          <p:cNvSpPr/>
          <p:nvPr/>
        </p:nvSpPr>
        <p:spPr>
          <a:xfrm>
            <a:off x="4038480" y="1295280"/>
            <a:ext cx="4572000" cy="449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2"/>
          <p:cNvCxnSpPr>
            <a:stCxn id="135" idx="0"/>
          </p:cNvCxnSpPr>
          <p:nvPr/>
        </p:nvCxnSpPr>
        <p:spPr>
          <a:xfrm flipH="1" flipV="1">
            <a:off x="3787560" y="4798440"/>
            <a:ext cx="3528000" cy="3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50"/>
          <p:cNvSpPr/>
          <p:nvPr/>
        </p:nvSpPr>
        <p:spPr>
          <a:xfrm>
            <a:off x="2819520" y="459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ailed 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2438280"/>
            <a:ext cx="1371600" cy="12956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430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800600" y="3048120"/>
            <a:ext cx="45720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00600" y="4648320"/>
            <a:ext cx="457200" cy="12952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1480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0572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467480" y="2895480"/>
            <a:ext cx="381240" cy="9907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143000" y="3962520"/>
            <a:ext cx="1371600" cy="30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3"/>
          <p:cNvCxnSpPr/>
          <p:nvPr/>
        </p:nvCxnSpPr>
        <p:spPr>
          <a:xfrm>
            <a:off x="4495320" y="3200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3" name="Straight Arrow Connector 14"/>
          <p:cNvCxnSpPr/>
          <p:nvPr/>
        </p:nvCxnSpPr>
        <p:spPr>
          <a:xfrm>
            <a:off x="4495320" y="3657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4" name="Straight Arrow Connector 15"/>
          <p:cNvCxnSpPr/>
          <p:nvPr/>
        </p:nvCxnSpPr>
        <p:spPr>
          <a:xfrm>
            <a:off x="5257440" y="3429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5" name="Straight Arrow Connector 16"/>
          <p:cNvCxnSpPr/>
          <p:nvPr/>
        </p:nvCxnSpPr>
        <p:spPr>
          <a:xfrm>
            <a:off x="44953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>
            <a:off x="44953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7" name="Straight Arrow Connector 18"/>
          <p:cNvCxnSpPr/>
          <p:nvPr/>
        </p:nvCxnSpPr>
        <p:spPr>
          <a:xfrm>
            <a:off x="525744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8" name="TextBox 55"/>
          <p:cNvSpPr/>
          <p:nvPr/>
        </p:nvSpPr>
        <p:spPr>
          <a:xfrm>
            <a:off x="37339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5"/>
          <p:cNvSpPr/>
          <p:nvPr/>
        </p:nvSpPr>
        <p:spPr>
          <a:xfrm>
            <a:off x="37339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5"/>
          <p:cNvSpPr/>
          <p:nvPr/>
        </p:nvSpPr>
        <p:spPr>
          <a:xfrm>
            <a:off x="5334120" y="3276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3505320" y="4905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3"/>
          <p:cNvCxnSpPr/>
          <p:nvPr/>
        </p:nvCxnSpPr>
        <p:spPr>
          <a:xfrm>
            <a:off x="4495320" y="5715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83" name="TextBox 55"/>
          <p:cNvSpPr/>
          <p:nvPr/>
        </p:nvSpPr>
        <p:spPr>
          <a:xfrm>
            <a:off x="3657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365760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53341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>
            <a:off x="4495320" y="536256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87" name="TextBox 55"/>
          <p:cNvSpPr/>
          <p:nvPr/>
        </p:nvSpPr>
        <p:spPr>
          <a:xfrm>
            <a:off x="3657600" y="52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29"/>
          <p:cNvCxnSpPr/>
          <p:nvPr/>
        </p:nvCxnSpPr>
        <p:spPr>
          <a:xfrm>
            <a:off x="7162920" y="32004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89" name="Straight Arrow Connector 30"/>
          <p:cNvCxnSpPr/>
          <p:nvPr/>
        </p:nvCxnSpPr>
        <p:spPr>
          <a:xfrm>
            <a:off x="7162920" y="3580920"/>
            <a:ext cx="30528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90" name="TextBox 55"/>
          <p:cNvSpPr/>
          <p:nvPr/>
        </p:nvSpPr>
        <p:spPr>
          <a:xfrm>
            <a:off x="6400800" y="2819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interna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632448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-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5"/>
          <p:cNvSpPr/>
          <p:nvPr/>
        </p:nvSpPr>
        <p:spPr>
          <a:xfrm>
            <a:off x="79246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0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34"/>
          <p:cNvCxnSpPr/>
          <p:nvPr/>
        </p:nvCxnSpPr>
        <p:spPr>
          <a:xfrm>
            <a:off x="7848720" y="34290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4" name="Straight Arrow Connector 35"/>
          <p:cNvCxnSpPr/>
          <p:nvPr/>
        </p:nvCxnSpPr>
        <p:spPr>
          <a:xfrm>
            <a:off x="8377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95" name="TextBox 55"/>
          <p:cNvSpPr/>
          <p:nvPr/>
        </p:nvSpPr>
        <p:spPr>
          <a:xfrm>
            <a:off x="1522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37"/>
          <p:cNvCxnSpPr/>
          <p:nvPr/>
        </p:nvCxnSpPr>
        <p:spPr>
          <a:xfrm>
            <a:off x="8377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97" name="TextBox 55"/>
          <p:cNvSpPr/>
          <p:nvPr/>
        </p:nvSpPr>
        <p:spPr>
          <a:xfrm>
            <a:off x="763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0"/>
          <p:cNvCxnSpPr>
            <a:stCxn id="171" idx="2"/>
            <a:endCxn id="165" idx="0"/>
          </p:cNvCxnSpPr>
          <p:nvPr/>
        </p:nvCxnSpPr>
        <p:spPr>
          <a:xfrm flipH="1">
            <a:off x="1827000" y="4268880"/>
            <a:ext cx="3600" cy="30528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9" name="Straight Arrow Connector 41"/>
          <p:cNvCxnSpPr/>
          <p:nvPr/>
        </p:nvCxnSpPr>
        <p:spPr>
          <a:xfrm>
            <a:off x="837720" y="5486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00" name="TextBox 55"/>
          <p:cNvSpPr/>
          <p:nvPr/>
        </p:nvSpPr>
        <p:spPr>
          <a:xfrm>
            <a:off x="2286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43"/>
          <p:cNvCxnSpPr/>
          <p:nvPr/>
        </p:nvCxnSpPr>
        <p:spPr>
          <a:xfrm>
            <a:off x="83772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02" name="TextBox 55"/>
          <p:cNvSpPr/>
          <p:nvPr/>
        </p:nvSpPr>
        <p:spPr>
          <a:xfrm>
            <a:off x="0" y="3962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,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5"/>
          <p:cNvCxnSpPr/>
          <p:nvPr/>
        </p:nvCxnSpPr>
        <p:spPr>
          <a:xfrm>
            <a:off x="251424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04" name="TextBox 55"/>
          <p:cNvSpPr/>
          <p:nvPr/>
        </p:nvSpPr>
        <p:spPr>
          <a:xfrm>
            <a:off x="26668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5"/>
          <p:cNvSpPr/>
          <p:nvPr/>
        </p:nvSpPr>
        <p:spPr>
          <a:xfrm>
            <a:off x="162252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1819440" y="3703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53"/>
          <p:cNvCxnSpPr>
            <a:stCxn id="164" idx="2"/>
            <a:endCxn id="171" idx="0"/>
          </p:cNvCxnSpPr>
          <p:nvPr/>
        </p:nvCxnSpPr>
        <p:spPr>
          <a:xfrm flipH="1">
            <a:off x="1827000" y="3735000"/>
            <a:ext cx="360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8" name="Straight Arrow Connector 54"/>
          <p:cNvCxnSpPr/>
          <p:nvPr/>
        </p:nvCxnSpPr>
        <p:spPr>
          <a:xfrm>
            <a:off x="83772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09" name="TextBox 55"/>
          <p:cNvSpPr/>
          <p:nvPr/>
        </p:nvSpPr>
        <p:spPr>
          <a:xfrm>
            <a:off x="1522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56"/>
          <p:cNvCxnSpPr/>
          <p:nvPr/>
        </p:nvCxnSpPr>
        <p:spPr>
          <a:xfrm>
            <a:off x="837720" y="33523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11" name="TextBox 55"/>
          <p:cNvSpPr/>
          <p:nvPr/>
        </p:nvSpPr>
        <p:spPr>
          <a:xfrm>
            <a:off x="1522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58"/>
          <p:cNvCxnSpPr/>
          <p:nvPr/>
        </p:nvCxnSpPr>
        <p:spPr>
          <a:xfrm>
            <a:off x="251424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13" name="TextBox 55"/>
          <p:cNvSpPr/>
          <p:nvPr/>
        </p:nvSpPr>
        <p:spPr>
          <a:xfrm>
            <a:off x="2666880" y="2743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5"/>
          <p:cNvSpPr/>
          <p:nvPr/>
        </p:nvSpPr>
        <p:spPr>
          <a:xfrm>
            <a:off x="1447920" y="2819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ryption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5"/>
          <p:cNvSpPr/>
          <p:nvPr/>
        </p:nvSpPr>
        <p:spPr>
          <a:xfrm>
            <a:off x="1143000" y="39988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-M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5"/>
          <p:cNvSpPr/>
          <p:nvPr/>
        </p:nvSpPr>
        <p:spPr>
          <a:xfrm>
            <a:off x="1371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63"/>
          <p:cNvCxnSpPr/>
          <p:nvPr/>
        </p:nvCxnSpPr>
        <p:spPr>
          <a:xfrm>
            <a:off x="380952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18" name="TextBox 64"/>
          <p:cNvSpPr/>
          <p:nvPr/>
        </p:nvSpPr>
        <p:spPr>
          <a:xfrm>
            <a:off x="297180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66"/>
          <p:cNvCxnSpPr>
            <a:stCxn id="168" idx="2"/>
          </p:cNvCxnSpPr>
          <p:nvPr/>
        </p:nvCxnSpPr>
        <p:spPr>
          <a:xfrm flipH="1">
            <a:off x="464580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20" name="TextBox 55"/>
          <p:cNvSpPr/>
          <p:nvPr/>
        </p:nvSpPr>
        <p:spPr>
          <a:xfrm>
            <a:off x="4191120" y="2209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68"/>
          <p:cNvCxnSpPr/>
          <p:nvPr/>
        </p:nvCxnSpPr>
        <p:spPr>
          <a:xfrm>
            <a:off x="640044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22" name="TextBox 69"/>
          <p:cNvSpPr/>
          <p:nvPr/>
        </p:nvSpPr>
        <p:spPr>
          <a:xfrm>
            <a:off x="556272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0"/>
          <p:cNvCxnSpPr/>
          <p:nvPr/>
        </p:nvCxnSpPr>
        <p:spPr>
          <a:xfrm flipH="1">
            <a:off x="723672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224" name="TextBox 55"/>
          <p:cNvSpPr/>
          <p:nvPr/>
        </p:nvSpPr>
        <p:spPr>
          <a:xfrm>
            <a:off x="678168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40384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5"/>
          <p:cNvSpPr/>
          <p:nvPr/>
        </p:nvSpPr>
        <p:spPr>
          <a:xfrm>
            <a:off x="65530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5"/>
          <p:cNvSpPr/>
          <p:nvPr/>
        </p:nvSpPr>
        <p:spPr>
          <a:xfrm>
            <a:off x="4702320" y="32004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7361280" y="31240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4724280" y="51055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G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and Pap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(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P, Low phase noise, jitter,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im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ap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: Layout, P&amp;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: Schematic, RTL Design,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b: Generating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Si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number of rows not fix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rows vary from 256-10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id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4-56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 siz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2 t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used blocks may have capability of being switched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cy and Security threats of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hallenges in implementing cryptography in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Solutions: NVRAM is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p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VRAM Energy-Delay vs. Supply Volt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most appropriate voltages (VDD, VCC) to read, program, er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nalysis done using 64kb BLS simula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ariation in transistor or PM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ll VDD, VCC, the RP and ER pulse widths are set such that PMC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is the common periphery supply, going everywhere except the bit-lines during PR,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 (1) – PR – RD (0) sequence is used and read delay and energy are measured. It is ensured that the RD after PR gives ~15% 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p VDD with WL voltage kept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D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0.4V for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C is kept constant at 0.6V f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962160"/>
            <a:ext cx="838188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1) Energy is capacitive in nature, thus its increase with VDD i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0) Energy components are partly capacitive and partly due to the static current draw between SA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MC. As VDD increases, both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ccess transistor become stronger, and static current rises. Simultaneously pulse width becomes smaller. But power increases faster because VDD is increasing too. Overall, energy increases with V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4260960" y="121284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2"/>
          <a:stretch/>
        </p:blipFill>
        <p:spPr>
          <a:xfrm>
            <a:off x="146160" y="12128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rase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1148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e pulse width irrelevant because most of the current dies out once the cell is successfully er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erase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 further, capacitive energy starts dominating, and energy start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hart 5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584960" cy="2749680"/>
          </a:xfrm>
          <a:prstGeom prst="rect">
            <a:avLst/>
          </a:prstGeom>
          <a:ln w="0">
            <a:noFill/>
          </a:ln>
        </p:spPr>
      </p:pic>
      <p:pic>
        <p:nvPicPr>
          <p:cNvPr id="247" name="Chart 6" descr=""/>
          <p:cNvPicPr/>
          <p:nvPr/>
        </p:nvPicPr>
        <p:blipFill>
          <a:blip r:embed="rId2"/>
          <a:stretch/>
        </p:blipFill>
        <p:spPr>
          <a:xfrm>
            <a:off x="4492800" y="1139760"/>
            <a:ext cx="45781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411480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pulse width is kept at 2x the program time (to take into account any var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program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energy is consumed after the cell is already written, during the 2x timing margin, which makes program different from er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hart 3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251" name="Chart 4" descr=""/>
          <p:cNvPicPr/>
          <p:nvPr/>
        </p:nvPicPr>
        <p:blipFill>
          <a:blip r:embed="rId2"/>
          <a:stretch/>
        </p:blipFill>
        <p:spPr>
          <a:xfrm>
            <a:off x="4565520" y="13651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ly explain the components of rd pr er ener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is the read 1 energy going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program delay decreasing sl slowly with VDD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FIDs: Widespread and Ubiquito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y Chain Management &amp; Ret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-Mart, Gillette, Bene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Pay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-Pass, Speedp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ccess Cards, Car Keyless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vacy &amp; Security Concer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respond to any reader that querie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can be queried wireles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maintain no record of being quer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often don’t know they are using RF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te Espion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competitors supply chain data, inventor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access to customer preferences/patterns without their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ing out inventory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 by spamming 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rivacy Threa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an individual using knowledge of the RFID he holds. E.g. People have shown how to track anyone using Nike+, which uses an active RFID ta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king of personal information. E.g. Prescri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dividuals who hold some (valuable) item based on the items RFID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ning a EZ-pass or Building access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Privacy Features on Ta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Kill a tag on check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you can’t use the tag anymore…. E.g. your “smart-refrigerator” wont be able to detect that your milk is too 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 only responds to a reader that gives the correct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if all tags use same password, the system becomes to vulnerable. Alternatively use per-tag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intain extensive tag-password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Challe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security challenges come from resource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C tags ~ 5 c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e count, memory, power, performance, die space, are all tightly constr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ryption solution should add only a fraction to above resources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the resourc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2451240"/>
        </p:xfrm>
        <a:graphic>
          <a:graphicData uri="http://schemas.openxmlformats.org/drawingml/2006/table">
            <a:tbl>
              <a:tblPr/>
              <a:tblGrid>
                <a:gridCol w="3656160"/>
                <a:gridCol w="45734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ie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.5m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in 130n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ead Perform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 read operations per secon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wer Consumption per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 μWat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PC Gen2 RFID protoc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nti-Collision Sup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andom Number Gene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K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30K ga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K bits in EEP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3:38:14Z</dcterms:created>
  <dc:creator>Sudhanshu</dc:creator>
  <dc:description/>
  <dc:language>en-US</dc:language>
  <cp:lastModifiedBy>Sudhanshu Khanna</cp:lastModifiedBy>
  <dcterms:modified xsi:type="dcterms:W3CDTF">2011-07-22T15:38:44Z</dcterms:modified>
  <cp:revision>328</cp:revision>
  <dc:subject/>
  <dc:title>Cryptography Enabled RFID and NVRAM</dc:title>
</cp:coreProperties>
</file>